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8.png" ContentType="image/png"/>
  <Override PartName="/ppt/media/image5.png" ContentType="image/png"/>
  <Override PartName="/ppt/media/image43.jpeg" ContentType="image/jpeg"/>
  <Override PartName="/ppt/media/image9.gif" ContentType="image/gif"/>
  <Override PartName="/ppt/media/image11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CE0-609C-4A0C-A96F-9904DA3F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BF3-3C5F-45BE-B18C-C59C342F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BDF-9361-4BE0-8E83-FDD344CF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9E0-1288-49AF-A8A2-C3EAF996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CD0-86AF-481B-A89D-14E89EA1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BC0-483F-4449-B5C1-A24F30E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4C4-1BA9-4ED2-A942-2A64DE6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F00-C7A7-4D01-8265-4F1398C3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4AB-3F49-48AC-9E33-1B7134C4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9E7-BE81-45A0-A79E-1814B12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702-018A-4E55-ADEE-4F47FFC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739-AF67-4BB8-B502-A1342AD4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E6AF-DE06-4162-9A28-5056A5FB90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53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54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792720"/>
                  <a:gd name="textAreaBottom" fmla="*/ 793080 h 792720"/>
                </a:gdLst>
                <a:ahLst/>
                <a:rect l="textAreaLeft" t="textAreaTop" r="textAreaRight" b="textAreaBottom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>
                  <a:gd name="textAreaLeft" fmla="*/ 0 w 2285640"/>
                  <a:gd name="textAreaRight" fmla="*/ 2285640 w 2285640"/>
                  <a:gd name="textAreaTop" fmla="*/ 0 h 2651760"/>
                  <a:gd name="textAreaBottom" fmla="*/ 2652120 h 265176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988560"/>
                  <a:gd name="textAreaBottom" fmla="*/ 988920 h 988560"/>
                </a:gdLst>
                <a:ahLst/>
                <a:rect l="textAreaLeft" t="textAreaTop" r="textAreaRight" b="textAreaBottom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2" descr="Apikal4D"/>
          <p:cNvPicPr/>
          <p:nvPr/>
        </p:nvPicPr>
        <p:blipFill>
          <a:blip r:embed="rId1"/>
          <a:stretch/>
        </p:blipFill>
        <p:spPr>
          <a:xfrm>
            <a:off x="5364000" y="4290840"/>
            <a:ext cx="378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16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16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16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758600"/>
                    <a:gd name="textAreaBottom" fmla="*/ 1758960 h 1758600"/>
                  </a:gdLst>
                  <a:ahLst/>
                  <a:rect l="textAreaLeft" t="textAreaTop" r="textAreaRight" b="textAreaBottom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>
                    <a:gd name="textAreaLeft" fmla="*/ 0 w 947160"/>
                    <a:gd name="textAreaRight" fmla="*/ 947520 w 94716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>
                    <a:gd name="textAreaLeft" fmla="*/ 0 w 2361960"/>
                    <a:gd name="textAreaRight" fmla="*/ 2362320 w 2361960"/>
                    <a:gd name="textAreaTop" fmla="*/ 0 h 2666880"/>
                    <a:gd name="textAreaBottom" fmla="*/ 2667240 h 2666880"/>
                  </a:gdLst>
                  <a:ahLst/>
                  <a:rect l="textAreaLeft" t="textAreaTop" r="textAreaRight" b="textAreaBottom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>
                    <a:gd name="textAreaLeft" fmla="*/ 0 w 729000"/>
                    <a:gd name="textAreaRight" fmla="*/ 729360 w 729000"/>
                    <a:gd name="textAreaTop" fmla="*/ 0 h 844920"/>
                    <a:gd name="textAreaBottom" fmla="*/ 845280 h 844920"/>
                  </a:gdLst>
                  <a:ahLst/>
                  <a:rect l="textAreaLeft" t="textAreaTop" r="textAreaRight" b="textAreaBottom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18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1027800"/>
                  <a:gd name="textAreaBottom" fmla="*/ 1028160 h 1027800"/>
                </a:gdLst>
                <a:ahLst/>
                <a:rect l="textAreaLeft" t="textAreaTop" r="textAreaRight" b="textAreaBottom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>
                  <a:gd name="textAreaLeft" fmla="*/ 0 w 727560"/>
                  <a:gd name="textAreaRight" fmla="*/ 727920 w 727560"/>
                  <a:gd name="textAreaTop" fmla="*/ 0 h 1060200"/>
                  <a:gd name="textAreaBottom" fmla="*/ 1060560 h 1060200"/>
                </a:gdLst>
                <a:ahLst/>
                <a:rect l="textAreaLeft" t="textAreaTop" r="textAreaRight" b="textAreaBottom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2874240"/>
                  <a:gd name="textAreaBottom" fmla="*/ 2874600 h 287424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1013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Heart Chambers: Pulmonary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9640" y="1557360"/>
            <a:ext cx="3600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trium (forms most of posterior of hear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body via IVC, SVC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right atrium through tricuspid 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s blood to lung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ulmonary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957480" y="1844640"/>
            <a:ext cx="51865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752480" y="333360"/>
            <a:ext cx="7696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eart Chambers: Systemic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1447920"/>
            <a:ext cx="4135320" cy="55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ch blood from 4 Pulmonary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 (forms apex of hear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blood from Left Atrium via bicuspid val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s blood into aorta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13_10"/>
          <p:cNvPicPr/>
          <p:nvPr/>
        </p:nvPicPr>
        <p:blipFill>
          <a:blip r:embed="rId1"/>
          <a:stretch/>
        </p:blipFill>
        <p:spPr>
          <a:xfrm>
            <a:off x="4406760" y="177336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6232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Valves: Lub*-Dub**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52280" y="1143000"/>
            <a:ext cx="4564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Tricuspid Valve: Right AV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usps (flaps) made of endocardium and 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of blood pushes cusps op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entricle in diastole (relaxed), cusps hang limp in ventric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contraction increases pressure and forces cusps clo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icuspid (Mitral) Valve: Left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sps anchored in Lft. Ventricle by chordae tendin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same as Rt.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Semilunar val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vents backflow in large art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Semilunar Valve:  Rt Ventricle and Pulmonary Tr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rtic Semilunar Valve:  Left Ventricle and A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3_04"/>
          <p:cNvPicPr/>
          <p:nvPr/>
        </p:nvPicPr>
        <p:blipFill>
          <a:blip r:embed="rId1"/>
          <a:stretch/>
        </p:blipFill>
        <p:spPr>
          <a:xfrm>
            <a:off x="4622760" y="191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edit heart pic for quiz"/>
          <p:cNvPicPr/>
          <p:nvPr/>
        </p:nvPicPr>
        <p:blipFill>
          <a:blip r:embed="rId1"/>
          <a:stretch/>
        </p:blipFill>
        <p:spPr>
          <a:xfrm>
            <a:off x="0" y="189000"/>
            <a:ext cx="91663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types of blood vessel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 carry blood aw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cker walls to withstand the pressure of blood being pumped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ins - toward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-way valves to prevent blood from flowing backwards away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pill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ny links b/w arteries and veins where oxygen and nutrients diffuse to body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of blood vessels, are only visible by microscope ten capillaries lying side by side are barely as thick as a human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rteries carry blood </a:t>
            </a: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3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>
              <a:gd name="textAreaLeft" fmla="*/ 0 w 3065400"/>
              <a:gd name="textAreaRight" fmla="*/ 3065760 w 306540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3_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>
              <a:gd name="textAreaLeft" fmla="*/ 0 w 885600"/>
              <a:gd name="textAreaRight" fmla="*/ 885960 w 885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>
              <a:gd name="textAreaLeft" fmla="*/ 0 w 103320"/>
              <a:gd name="textAreaRight" fmla="*/ 103680 w 103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>
              <a:gd name="textAreaLeft" fmla="*/ 0 w 885960"/>
              <a:gd name="textAreaRight" fmla="*/ 886320 w 885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>
              <a:gd name="textAreaLeft" fmla="*/ 0 w 271440"/>
              <a:gd name="textAreaRight" fmla="*/ 271800 w 2714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>
              <a:gd name="textAreaLeft" fmla="*/ 0 w 343080"/>
              <a:gd name="textAreaRight" fmla="*/ 343440 w 343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T01235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, veins, and capillaries - divided into two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ic - carries oxygenated blood from heart to all tissues in body except lungs and returns deoxygenated blood carrying waste products, such as carbon dioxide, back to hear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-rich blood ejected under high pressure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's main pumping chamber (L. ventricle)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artery (aor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branch off from aorta to various parts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in turn branch out into even smaller arteries (arterio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erioles become progressively smaller eventually forming capillaries -  blood pressure is grea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tcirc"/>
          <p:cNvPicPr/>
          <p:nvPr/>
        </p:nvPicPr>
        <p:blipFill>
          <a:blip r:embed="rId1"/>
          <a:stretch/>
        </p:blipFill>
        <p:spPr>
          <a:xfrm>
            <a:off x="2666880" y="15228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5562720" y="1523880"/>
            <a:ext cx="12952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3520" y="37339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titial fluid fills the gaps between the cells of tissues or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olved oxygen and nutrients then enter the cells from interstitial fluid by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bon dioxide and other wastes leave the cell via interstitial fluid, cross capillary walls, and enter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delivering oxygen to tissues and absorbing wastes, deoxygenated blood in capillaries then starts the return trip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T012357A"/>
          <p:cNvPicPr/>
          <p:nvPr/>
        </p:nvPicPr>
        <p:blipFill>
          <a:blip r:embed="rId1"/>
          <a:stretch/>
        </p:blipFill>
        <p:spPr>
          <a:xfrm>
            <a:off x="1600200" y="0"/>
            <a:ext cx="633240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ies merge to form tiny veins, called 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ules join together to form progressively larger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ins converge into two large ve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rior vena cava-brings blood from the lower half of 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vena cava-brings blood from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join at the right atrium of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tcirc"/>
          <p:cNvPicPr/>
          <p:nvPr/>
        </p:nvPicPr>
        <p:blipFill>
          <a:blip r:embed="rId1"/>
          <a:stretch/>
        </p:blipFill>
        <p:spPr>
          <a:xfrm>
            <a:off x="2666880" y="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5715000" y="1600200"/>
            <a:ext cx="457200" cy="3808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95480" y="1752480"/>
            <a:ext cx="762120" cy="38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95480" y="1219320"/>
            <a:ext cx="762120" cy="3808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49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5920"/>
                <a:gd name="textAreaBottom" fmla="*/ 475920 h 475920"/>
              </a:gdLst>
              <a:ahLst/>
              <a:rect l="textAreaLeft" t="textAreaTop" r="textAreaRight" b="textAreaBottom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is dissipated in arterioles and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od in veins flows back to heart at very low pressure, often running uphill when a person is 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against gravity allowed by one-way va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centimeters apart in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ins with defective valves (allow the blood to flow backward) become enlarged or dilated to form 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image_1"/>
          <p:cNvPicPr/>
          <p:nvPr/>
        </p:nvPicPr>
        <p:blipFill>
          <a:blip r:embed="rId1"/>
          <a:srcRect l="0" t="0" r="0" b="6670"/>
          <a:stretch/>
        </p:blipFill>
        <p:spPr>
          <a:xfrm>
            <a:off x="2057400" y="914400"/>
            <a:ext cx="452268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6629400" y="1447920"/>
            <a:ext cx="1905120" cy="825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4"/>
          <p:cNvSpPr/>
          <p:nvPr/>
        </p:nvSpPr>
        <p:spPr>
          <a:xfrm flipH="1">
            <a:off x="5791320" y="1828800"/>
            <a:ext cx="838080" cy="8380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"/>
          <p:cNvSpPr/>
          <p:nvPr/>
        </p:nvSpPr>
        <p:spPr>
          <a:xfrm flipH="1" flipV="1">
            <a:off x="5562360" y="1371600"/>
            <a:ext cx="106668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"/>
          <p:cNvSpPr/>
          <p:nvPr/>
        </p:nvSpPr>
        <p:spPr>
          <a:xfrm flipH="1">
            <a:off x="5943240" y="1828800"/>
            <a:ext cx="685800" cy="21337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monary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oxygenated blood returning from organs and tissues travel from R. atrium to R.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through pulmonary artery to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monary artery divides forming pulmonary capillary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scopic vessels pass adjacent to alveoli (air sacs) - gases are exchanged across thin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 crosses membrane into blood while carbon dioxide leaves blood through sam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ly oxygenated blood then flows into pulmonary veins and is collected by L. atrium of the heart                (collecting pool for L.ventr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L. ventricle sends blood into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circulatory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ys-pul"/>
          <p:cNvPicPr/>
          <p:nvPr/>
        </p:nvPicPr>
        <p:blipFill>
          <a:blip r:embed="rId1"/>
          <a:stretch/>
        </p:blipFill>
        <p:spPr>
          <a:xfrm>
            <a:off x="609480" y="1019160"/>
            <a:ext cx="8077320" cy="5838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248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9907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86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200400" y="2743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AORTIC 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INF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343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4771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172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2"/>
          <p:cNvSpPr/>
          <p:nvPr/>
        </p:nvSpPr>
        <p:spPr>
          <a:xfrm flipH="1">
            <a:off x="5486040" y="2895480"/>
            <a:ext cx="1066680" cy="304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638680" y="3809880"/>
            <a:ext cx="990720" cy="152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429000" y="2286000"/>
            <a:ext cx="685800" cy="152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3505320" y="5562720"/>
            <a:ext cx="30456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6"/>
          <p:cNvSpPr/>
          <p:nvPr/>
        </p:nvSpPr>
        <p:spPr>
          <a:xfrm flipH="1" flipV="1">
            <a:off x="4800240" y="5790960"/>
            <a:ext cx="30492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tcirc"/>
          <p:cNvPicPr/>
          <p:nvPr/>
        </p:nvPicPr>
        <p:blipFill>
          <a:blip r:embed="rId1"/>
          <a:stretch/>
        </p:blipFill>
        <p:spPr>
          <a:xfrm>
            <a:off x="2478240" y="0"/>
            <a:ext cx="4381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tcirc"/>
          <p:cNvPicPr/>
          <p:nvPr/>
        </p:nvPicPr>
        <p:blipFill>
          <a:blip r:embed="rId2"/>
          <a:stretch/>
        </p:blipFill>
        <p:spPr>
          <a:xfrm>
            <a:off x="259092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2438280" y="152388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638680" y="137160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715000" y="1676520"/>
            <a:ext cx="762120" cy="304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y/Vein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80880" y="1371600"/>
          <a:ext cx="8382240" cy="503064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27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es (aa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s (vv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of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way from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o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ER:  Tunica media thicker than tunica ex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NER:  Tunica externa thicker than tunica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 (see nex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3_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irculatory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ircuits2"/>
          <p:cNvPicPr/>
          <p:nvPr/>
        </p:nvPicPr>
        <p:blipFill>
          <a:blip r:embed="rId1"/>
          <a:stretch/>
        </p:blipFill>
        <p:spPr>
          <a:xfrm>
            <a:off x="762120" y="838080"/>
            <a:ext cx="51037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019920" y="285264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158880" y="119700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ead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ead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arm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arm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18960" y="5853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double p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leg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leg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image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body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upper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upper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arm ve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rm vei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vien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viens abdomen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leg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leg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guts arti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edit heart pic for quiz"/>
          <p:cNvPicPr/>
          <p:nvPr/>
        </p:nvPicPr>
        <p:blipFill>
          <a:blip r:embed="rId1"/>
          <a:stretch/>
        </p:blipFill>
        <p:spPr>
          <a:xfrm>
            <a:off x="0" y="609480"/>
            <a:ext cx="6172200" cy="449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ediyed afdsgdfgfd"/>
          <p:cNvPicPr/>
          <p:nvPr/>
        </p:nvPicPr>
        <p:blipFill>
          <a:blip r:embed="rId2"/>
          <a:stretch/>
        </p:blipFill>
        <p:spPr>
          <a:xfrm>
            <a:off x="5181480" y="0"/>
            <a:ext cx="438012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-4680" y="0"/>
            <a:ext cx="9472680" cy="686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472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I.Circulatory System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art - divided into four cha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ht atrium, right ventricle, left atrium,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eart2a"/>
          <p:cNvPicPr/>
          <p:nvPr/>
        </p:nvPicPr>
        <p:blipFill>
          <a:blip r:embed="rId1"/>
          <a:stretch/>
        </p:blipFill>
        <p:spPr>
          <a:xfrm>
            <a:off x="2133720" y="2666880"/>
            <a:ext cx="5562360" cy="4046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20968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548640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79132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5880" y="487692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Andrew S. Hansell</cp:lastModifiedBy>
  <dcterms:modified xsi:type="dcterms:W3CDTF">2015-01-06T13:45:10Z</dcterms:modified>
  <cp:revision>64</cp:revision>
  <dc:subject/>
  <dc:title>Circulatory system</dc:title>
</cp:coreProperties>
</file>